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05D-BF25-4A35-A9AB-AA3D8C9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0E2-1287-4753-ABBE-C65A9E58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09B-4C2D-462C-8C72-0AFE8E74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12D-93F2-4910-BD15-6CB586FC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0FD9-E4F2-4E6F-A511-396F605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3CC0-68A1-4CB2-B36F-A6F63B92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C822-B772-4EF3-8996-15333F4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79E-39E4-49C9-9799-23128DBC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F27-A543-4991-9C52-3C52086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4362-374F-4DCD-AE3F-AF2F1AE7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312A-9D51-49FB-8002-9258137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2A9-C9A5-410A-A7AE-8EE94C4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5ED8-EDFD-4F95-95B8-72F2EE5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4F72-8EC6-42B9-A73A-7432658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2BD-BD22-4D28-9414-46C93425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58D8-29AD-44AF-90CF-3AA0DA29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7BE0-73AA-491F-B7EB-B150D8CB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DDCD-4CE4-480D-B69A-D364B272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8322-E8EE-48C8-8DE0-C1768C3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AE5D-70B7-4D00-BF69-6A3BAF1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7FD0-02A0-49C5-833C-4BC08556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F573-CDCE-47D7-866F-313803E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77E-7927-4A2A-8F40-946C627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FAE3-78A8-471A-8B40-BD4E528D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C95C-CB94-47AE-A304-2FECB16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C2DB-7288-4D8A-81B0-6716DDD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06A8-8B1E-455A-A09B-901080B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150C-6100-41F9-85DC-E9679B6C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0489-F9A1-4E2D-AD59-373B27A2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1360-AA65-4CD7-8AA7-B58E310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6E1E-E07F-4FDF-82B3-8D51C579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03C4-944B-43D8-A14D-5435FDE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514C-431B-4611-80E0-F44FDB7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758-4B90-42C8-A57C-BF91E0A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F6D0-F417-41BD-9837-4EE4174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160E-4F4D-4CB9-8FDD-0613618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F703-BAB0-4096-8B24-1E431298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4DE6-B4EE-4702-BCF9-85727DE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ABDE-F6B8-4CD7-8899-2623FEA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1C68-42A2-4842-A65D-788ACFA7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1B90-40A1-4B3E-A4AC-EB1AFD47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1823-C0B8-4B94-B953-CB436DF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B0A2-CA77-49B5-A685-5BAF088B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46E-ABE0-4841-87EA-6592212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542-D787-4D0F-B814-A84B227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5E5-4D15-4D59-806E-3618F07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7CA-BA44-46AA-A373-3977A58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FD0-812D-4E37-86C7-9C8199B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0ED-6EF1-477F-BEF6-886ABC1D56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9C6-E54F-4D9F-A3DA-45E03173AA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933-0B77-4758-BEED-5D3EDCFAE5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699-7C3F-4C87-9694-A98711DB50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gromagazin.ru/igry-nikitina/kubiki-dlya-vsekh-nikitina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igromagazin.ru/igry-nikitina/slozhi-kvadrat-3-derevo-ramki-i-vkladyshi/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141300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Выделение элементов и свойств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04000" y="429264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Яночкина Н.В</a:t>
            </a:r>
            <a:r>
              <a:rPr b="0" lang="en-US" sz="1800" spc="-1" strike="noStrike">
                <a:solidFill>
                  <a:srgbClr val="0000cc"/>
                </a:solidFill>
                <a:latin typeface="Arial Black"/>
              </a:rPr>
              <a:t>.,</a:t>
            </a:r>
            <a:r>
              <a:rPr b="0" lang="en-US" sz="18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 Black"/>
              </a:rPr>
              <a:t>646 гр</a:t>
            </a:r>
            <a:r>
              <a:rPr b="0" lang="en-US" sz="1800" spc="-1" strike="noStrike">
                <a:solidFill>
                  <a:srgbClr val="6666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5589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ыктывка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lum bright="-12000"/>
          </a:blip>
          <a:srcRect l="8114" t="4449" r="7795" b="0"/>
          <a:stretch/>
        </p:blipFill>
        <p:spPr>
          <a:xfrm rot="20395200">
            <a:off x="1332000" y="3789000"/>
            <a:ext cx="2239920" cy="19098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246" t="2661" r="4752" b="341"/>
          <a:stretch/>
        </p:blipFill>
        <p:spPr>
          <a:xfrm>
            <a:off x="6156360" y="2852640"/>
            <a:ext cx="2449440" cy="2211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9079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33"/>
                </a:solidFill>
                <a:latin typeface="Verdana"/>
                <a:ea typeface="Arial"/>
              </a:rPr>
              <a:t>С дошкольниками необходимо проводить систематическую, последовательную работу, в ходе которой ребенок будет учиться выделять элементы и свойства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427800">
            <a:off x="250560" y="2781360"/>
            <a:ext cx="2555640" cy="2082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492360" y="3573360"/>
            <a:ext cx="2135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95280" y="188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Геометрические фигур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являю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эталон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, пользуясь которыми человек определяет форму предметов и их частей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76280"/>
            <a:ext cx="358920" cy="50472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721880"/>
            <a:ext cx="802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Проблему знакомства детей с геометрическими фигурами и их свойствами следует рассматривать в двух аспектах: в плане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сенсорного восприятия форм геометрических фигур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и использования их как эталонов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в познании форм окружающих предме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, а также в смысле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познания особенностей их структуры, свойств, основных связей и закономерностей в их построени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, т. е. собственно геометрического матери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844640"/>
            <a:ext cx="358920" cy="504720"/>
          </a:xfrm>
          <a:prstGeom prst="diamond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42920" y="18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Уровни формирования «геометрического мышления» дошкольников (А.А.Столяр, А.М.Пышкал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575360"/>
            <a:ext cx="7921800" cy="1618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ервый уровен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характеризуется тем, что фигура воспринимается детьми как целое, ребенок еще не умеет выделять в ней отдельные элементы, не замечает сходства и различия между фигурами, каждую из них воспринимает обособл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3360960"/>
            <a:ext cx="7921800" cy="131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тором уро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ребенок уже выделяет элементы в фигуре и устанавливает отношения как между ними, так и между отдельными фигурами, однако еще не осознает общности между фигу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4896360"/>
            <a:ext cx="7921800" cy="1008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третьем уро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ребенок в состоянии устанавливать связи между свойствами и структурой фигур, связи между самими свой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1480680"/>
            <a:ext cx="80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Аналитическое восприятие геометрической фигуры, умение выделить в ней выраженные и явно ощутимые элементы и свойства создают условия для дальнейшего, более углубленного познания структурных ее элементов, раскрытия существенных признаков как внутри самой фигуры, так и между рядом фигур. Так, на основе выделения в объектах самого главного, существенного формируются понятия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(С. Л. Руби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2014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у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го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яма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резо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е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етырех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ямоугольн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вадра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кружно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у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уб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з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ирамид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Шар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илинд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Геометрические понят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6591" r="0" b="8039"/>
          <a:stretch/>
        </p:blipFill>
        <p:spPr>
          <a:xfrm>
            <a:off x="5148360" y="4581360"/>
            <a:ext cx="3419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8840" y="188640"/>
            <a:ext cx="862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Примерная программа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«Математическое развитие дошколь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Arial"/>
              </a:rPr>
              <a:t>(Автор – Белошистая А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2132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Младшая группа (от З до 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Arial"/>
              </a:rPr>
              <a:t>Раздел «Геометрические понятия и отно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ервичные представления о форме геометрических фигур (круглые, треугольные, четырехуголь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Фигуры и тела (плоские и объем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ростые задания на распознавание (выбор нужной фигуры из нескольких различных) и сравнение (выбор фигуры из похожих фигу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ыделение признаков цвета и формы фигур. Поиск одинаковых и похож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геометрических фигур из различных материалов. Часть и целое: конструирование геометрических фигур из отдельных ч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49320" y="691560"/>
            <a:ext cx="57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Arial"/>
              </a:rPr>
              <a:t>Средняя группа (от 4 до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1703160"/>
            <a:ext cx="83170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точнение представлений о форме геометрических фигур: простые задания н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ознавание, на сравнение, на сериацию, на классификац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(по размеру, по форме, по цве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полнение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южетных рисунков и орнаментов из геометрических форм, их закрашивание с использованием контурной рам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геометрических фигур из отдельных часте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(геометрические мозаики, наборы «Сложи фигуру», палоч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нструирование предметных и сюжетных композиций из геометрических мозаик 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руг и овал. Треугольник и четырехугольник. Квадрат. Прямоугольник. Объемные тела (шар, куб, прямая призма типа «кирпич», конус, цилиндр)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лементы проективного обследования этих фигур в практиче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535" t="0" r="0" b="0"/>
          <a:stretch/>
        </p:blipFill>
        <p:spPr>
          <a:xfrm>
            <a:off x="6588000" y="189000"/>
            <a:ext cx="2556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35640" y="76428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Arial"/>
              </a:rPr>
              <a:t>Старшая группа (от 5 до 6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13228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Уточнение представлений о форме геометрических фигур: задания на распознавание, сравнение, классификацию с разнообразными наборами фигур и объемных тел. Выполнение рисунков и орнаментов из геометрических форм и их штриховка по контурной рамке. Конструирование геометрических фигур из отдельных частей (геометрическая мозаика, наборы «Сложи фигуру», палочк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58028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Точка. Прямая. Кривая. Ломаная. И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моделировани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из шнура, палочек и др. Получение прямой сгибанием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нутренняя и внешняя части фигуры. Граница фигуры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Замкнутые и незамкнутые линии. Треугольник. Четырехугольник. Круг и окружность. Полукруг. Овал. Симметричный орна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6278" t="16158" r="4764" b="3628"/>
          <a:stretch/>
        </p:blipFill>
        <p:spPr>
          <a:xfrm>
            <a:off x="7020000" y="260280"/>
            <a:ext cx="1655640" cy="1944720"/>
          </a:xfrm>
          <a:prstGeom prst="rect">
            <a:avLst/>
          </a:prstGeom>
          <a:ln w="28440">
            <a:solidFill>
              <a:srgbClr val="ff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1628640"/>
            <a:ext cx="896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 дошкольном возрасте происходит овладение перцептивной и интеллектуальной систематизацией форм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наиболее эффективным способом освоения дошкольниками геометрического материала являет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Verdana"/>
                <a:ea typeface="Arial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знание геометрических фигур, их свойств и отношений расширяет кругозор детей, позволяет им более точно и разносторонне воспринимать форму окружающих предметов, что положительно отражается на их продуктивн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5280" y="9810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Таким образ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30:13Z</dcterms:created>
  <dc:creator>студент</dc:creator>
  <dc:description/>
  <dc:language>en-US</dc:language>
  <cp:lastModifiedBy>1</cp:lastModifiedBy>
  <dcterms:modified xsi:type="dcterms:W3CDTF">2010-12-23T18:33:06Z</dcterms:modified>
  <cp:revision>75</cp:revision>
  <dc:subject/>
  <dc:title>Слайд 1</dc:title>
</cp:coreProperties>
</file>